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12193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406080" y="696960"/>
            <a:ext cx="619740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CF5F-FB03-415A-8179-6BE5004736B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C2E3-4B24-440D-BA0C-24046176005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E838-2E34-4196-B644-7A705A9A432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784A-805F-4643-B27B-AD249A85A73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1AEF-8F8D-4E20-A5BD-83B33F6E51B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A47D5-438C-4EAF-94FC-72FDB76A2DC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820A-0946-4982-BD88-FD2B1EEE09F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6A980-3159-4E05-9A12-B534936A22E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F7B5-FD19-4C49-BAE2-66D8479A0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29E1-00A9-453C-B7E6-E05D8EC0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29A6-9A6C-4654-80E5-26BDC905C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1232-623A-4BBE-B89E-9C358F8ED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56D2-D06C-42B7-8938-87219B4A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95CD0-441E-450B-8D17-DF3903AA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126E-2C9E-499D-A9F4-69B15D9F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C233-E62A-4193-BC43-19AEDF91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CF61-0DA7-40D3-B780-9408BB33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DBE90-CF94-4759-B22B-7056DFEF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48F2C-7B6A-4CB7-B07C-0C0024D4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361C-DB58-46BB-A5E3-BBB36A8C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A5A8-FF5B-47D7-9B15-732511BF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82291-7837-418A-B4E0-E75F2E2D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DEF71-3892-4CCF-BC4E-65519521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8E0A-D7A6-4BB2-A37D-0587D82F1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18C09-61AF-40A2-B795-73153B3E9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FB6DB-373F-404E-BA3D-3F5B1BB80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66C3E-45A7-43AC-A5C4-F06B8D0F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6B3EA-2D6F-42CB-BBE7-A5DBDE458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AC3BD-659A-4B3C-9B22-D7652308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A7071-8255-4E94-9BFA-B182E8499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F914-F075-4E6A-88F4-67852F73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DF9BF-83F4-430A-B6B0-CC69B91E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89D67-C871-4248-B27C-70BD0324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7A98B-A87B-478A-8F1A-983B6FBC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3F6BA-6D28-41FB-9783-3690D56B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7F3BB-B0F6-4B01-B49B-BD783AC1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95B7F-B250-48BB-8A37-7A149726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118B9-6222-4BFA-9CEB-B43B4892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5AD6D-B3A7-4BF1-82BF-20099AEE0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87F7B-FD6E-4C01-BF8E-FE28D1ED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5A7041-0CF9-48A3-95C9-CB869495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0F18-BC4E-4D7F-8C2A-1240B71C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DD7F7-5DEE-46EE-A3CC-72F678D0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E5AE8-6622-40CA-8E40-F387F79E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1FEBE-8A00-407F-9D9D-BEED8522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9C8BB-FA41-4552-B0BA-17F75A03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30897-D9F9-4228-9155-9BC8F98C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3E09F-4E75-4308-AA62-18095422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57A5A-336E-43A3-AA5C-B263CB61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E21AB-3507-43E2-A6FE-F758AE0F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9D312-0C6F-4D85-8F6D-24D953A68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0BDB5-1464-4C30-AD42-109B6CCBC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ADF5-20D2-47AD-A635-2319C2EB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D58D6-7F71-4424-9148-0AA66678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34EDA-138E-4DD5-B278-B3D65AC8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F4BA7-0C37-4B43-A9F1-41A01A70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B8552-5792-4155-B4DF-0214D43C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44693-5002-420B-AEBB-25FA28BB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1A81D-15BF-4E45-B95B-50CFFD15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A2C6E1-EF5B-4B9F-ACC8-D7EC9495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D8915-796B-4237-B68F-EE9AB9A1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DD5F2-309A-413A-9DC7-D91A80613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73EC5-0319-4C3E-B132-40546DDCE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DB71-8183-47CC-B148-504C47ABE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FDB63-66BC-435D-85FF-B3774EA28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7456A-2728-4676-9BCA-DAF216506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7A4DA-B4B7-4E84-9AA3-497C49B3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86B1F-903F-4566-BA30-0C9130184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A5192-7ABC-4EA1-A85E-0011E15D3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24487-C882-4DB3-9B65-F2F2F186E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35C77-785C-4BC2-ADD2-8E0DDDFE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119EA-5577-4417-9E95-DCC95596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321E4-7F77-4FE1-9711-1D59B313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FEB23-B6EF-4134-8946-F8FF9833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BBE5-D55C-4ED9-89A7-1D8E03AC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0ED9F-A7AC-4FFA-84CB-BE546514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E9334-3ABB-4EEB-BCD0-0883FFFE7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0E34E-7622-47EB-BFF6-0F01BD5AC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E37A-6404-45D3-A289-4472A9D6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6324-0B87-49FB-9D27-488686E1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871F6-EB0D-4A4A-8BEE-27710C061004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E171-3110-4BD6-85D2-FEFF0B692DBB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C553-3AA6-4F98-80C6-36D323E0FF21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FD86-7536-4FB8-922F-C0C3C6AE8463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1C93-66A5-405F-8B94-C6AE9870E6A2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1128-3EEE-4F27-B256-5FAB3439927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947B-5F81-4658-8A9D-2F2CD33D69E4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FCED-E6AA-4736-B98F-027DB719FED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DDD0-255A-4286-8C7B-6F726A2B2E5B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D677-C855-45EE-9FBE-63CEB270E8D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A4AF-1DE7-489F-AC6A-0BDD0C450E76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D95C-39D9-41C6-BD95-874EAF44358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567160" y="1413000"/>
            <a:ext cx="693396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RESULTADO DO REGIME GERAL DE PREVIDÊNCIA SOCIAL – RGP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Junho/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julho de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2063880" y="61657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RGPS – 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34800" y="692280"/>
            <a:ext cx="1080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Imagem 1" descr=""/>
          <p:cNvPicPr/>
          <p:nvPr/>
        </p:nvPicPr>
        <p:blipFill>
          <a:blip r:embed="rId1"/>
          <a:stretch/>
        </p:blipFill>
        <p:spPr>
          <a:xfrm>
            <a:off x="334800" y="1279440"/>
            <a:ext cx="10801440" cy="520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1523880" y="76500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de Junh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351000" y="64692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Imagem 1" descr=""/>
          <p:cNvPicPr/>
          <p:nvPr/>
        </p:nvPicPr>
        <p:blipFill>
          <a:blip r:embed="rId1"/>
          <a:stretch/>
        </p:blipFill>
        <p:spPr>
          <a:xfrm>
            <a:off x="351000" y="1484280"/>
            <a:ext cx="10785240" cy="498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334800" y="731880"/>
            <a:ext cx="10801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263520" y="64832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Imagem 1" descr=""/>
          <p:cNvPicPr/>
          <p:nvPr/>
        </p:nvPicPr>
        <p:blipFill>
          <a:blip r:embed="rId1"/>
          <a:stretch/>
        </p:blipFill>
        <p:spPr>
          <a:xfrm>
            <a:off x="334800" y="1450800"/>
            <a:ext cx="11017440" cy="50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2135160" y="1052640"/>
            <a:ext cx="7993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TENDÊNCI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, DESPESA E NECESSIDADE DE FINANCI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334800" y="698400"/>
            <a:ext cx="1080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 e Despesa com Benefícios Previdenciários, nos últimos 25 mese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Junho/2017 - INPC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995720" y="11224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34800" y="64166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Imagem 1" descr=""/>
          <p:cNvPicPr/>
          <p:nvPr/>
        </p:nvPicPr>
        <p:blipFill>
          <a:blip r:embed="rId1"/>
          <a:stretch/>
        </p:blipFill>
        <p:spPr>
          <a:xfrm>
            <a:off x="334800" y="1346040"/>
            <a:ext cx="10801440" cy="50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334800" y="765000"/>
            <a:ext cx="1080144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Arial"/>
                <a:ea typeface="Arial Unicode MS"/>
              </a:rPr>
              <a:t>Composição da Arrecadação Líqu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Corrente, Recuperação de Créditos e Transferência a Terceiros, nos últimos 25 mese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Junho/2017 - INP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407880" y="6464160"/>
            <a:ext cx="670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Imagem 1" descr=""/>
          <p:cNvPicPr/>
          <p:nvPr/>
        </p:nvPicPr>
        <p:blipFill>
          <a:blip r:embed="rId1"/>
          <a:stretch/>
        </p:blipFill>
        <p:spPr>
          <a:xfrm>
            <a:off x="407880" y="1557360"/>
            <a:ext cx="10944360" cy="49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334800" y="692280"/>
            <a:ext cx="108014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Arial"/>
                <a:ea typeface="Arial Unicode MS"/>
              </a:rPr>
              <a:t>Composição da Despesa com Benefícios Previdenci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Benefícios Pagos pelo INSS e Sentenças Judiciais nos últimos 25 mese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– Em R$ bilhões de Junho/2017 (INP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334800" y="6464160"/>
            <a:ext cx="67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Imagem 1" descr=""/>
          <p:cNvPicPr/>
          <p:nvPr/>
        </p:nvPicPr>
        <p:blipFill>
          <a:blip r:embed="rId1"/>
          <a:stretch/>
        </p:blipFill>
        <p:spPr>
          <a:xfrm>
            <a:off x="334800" y="1628640"/>
            <a:ext cx="10801440" cy="48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334800" y="689040"/>
            <a:ext cx="109458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a Previdência Social nos últimos 25 mese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Junho/2017 - INP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334800" y="646596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Imagem 1" descr=""/>
          <p:cNvPicPr/>
          <p:nvPr/>
        </p:nvPicPr>
        <p:blipFill>
          <a:blip r:embed="rId1"/>
          <a:stretch/>
        </p:blipFill>
        <p:spPr>
          <a:xfrm>
            <a:off x="339840" y="1341360"/>
            <a:ext cx="10869480" cy="50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334800" y="765000"/>
            <a:ext cx="10801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 por Clientela – Média móvel de 12 me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(janeiro/2006 a junho/2017)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Junho/2017 - INP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334800" y="6464160"/>
            <a:ext cx="67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Imagem 1" descr=""/>
          <p:cNvPicPr/>
          <p:nvPr/>
        </p:nvPicPr>
        <p:blipFill>
          <a:blip r:embed="rId1"/>
          <a:stretch/>
        </p:blipFill>
        <p:spPr>
          <a:xfrm>
            <a:off x="334800" y="1413000"/>
            <a:ext cx="10801440" cy="499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326880" y="692280"/>
            <a:ext cx="108014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 – Média móvel de 12 me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(janeiro/2006 a junho/2017)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Junho/2017 (INPC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34800" y="6464160"/>
            <a:ext cx="67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Imagem 1" descr=""/>
          <p:cNvPicPr/>
          <p:nvPr/>
        </p:nvPicPr>
        <p:blipFill>
          <a:blip r:embed="rId1"/>
          <a:stretch/>
        </p:blipFill>
        <p:spPr>
          <a:xfrm>
            <a:off x="334800" y="1343160"/>
            <a:ext cx="1079352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URB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1523880" y="2060640"/>
            <a:ext cx="91440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BENEFÍCIOS EMITID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(ESTOQU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34800" y="692280"/>
            <a:ext cx="10801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Benefícios Emitidos – RGPS –</a:t>
            </a:r>
            <a:r>
              <a:rPr b="1" lang="pt-BR" sz="1700" spc="-1" strike="noStrike">
                <a:solidFill>
                  <a:srgbClr val="cc0000"/>
                </a:solidFill>
                <a:latin typeface="Arial"/>
                <a:ea typeface="Arial Unicode MS"/>
              </a:rPr>
              <a:t> Junho/2016, Maio/2017 e Junho/201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334800" y="6502320"/>
            <a:ext cx="108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responsabilidade do Ministério do Desenvolvimento Soc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Imagem 1" descr=""/>
          <p:cNvPicPr/>
          <p:nvPr/>
        </p:nvPicPr>
        <p:blipFill>
          <a:blip r:embed="rId1"/>
          <a:stretch/>
        </p:blipFill>
        <p:spPr>
          <a:xfrm>
            <a:off x="479520" y="1052640"/>
            <a:ext cx="10656720" cy="55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334800" y="1125360"/>
            <a:ext cx="1080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Entre dezembro de 2007 e junho de 2017, a quantidade de benefícios previdenciários e acidentários emitidos pela Previdência aumentou 33,3%, passando de 22,1 milhões para 29,4 milhõ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334800" y="765000"/>
            <a:ext cx="1080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volução da Quantidade de Benefícios Emitidos pela Previdência Social</a:t>
            </a:r>
            <a:r>
              <a:rPr b="1" i="1" lang="pt-BR" sz="1600" spc="-1" strike="noStrike">
                <a:solidFill>
                  <a:srgbClr val="629dd1"/>
                </a:solidFill>
                <a:latin typeface="Arial"/>
                <a:ea typeface="Arial Unicode MS"/>
              </a:rPr>
              <a:t>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Em milhões de benefícios - 2007 a 2016 (dezembro), 2017 (Junh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34800" y="6445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responsabilidade do Ministério do Desenvolvimento Soc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Imagem 1" descr=""/>
          <p:cNvPicPr/>
          <p:nvPr/>
        </p:nvPicPr>
        <p:blipFill>
          <a:blip r:embed="rId1"/>
          <a:stretch/>
        </p:blipFill>
        <p:spPr>
          <a:xfrm>
            <a:off x="407880" y="1582560"/>
            <a:ext cx="10728360" cy="501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334800" y="717480"/>
            <a:ext cx="1080144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Valor Médio Real dos Benefícios Pagos pela Previdência Social (2010 a 2017)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Média de Janeiro a Junho de cada ano – Em R$ de Junh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334800" y="1268280"/>
            <a:ext cx="10801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O valor médio real dos benefícios da Previdência Social atingiu R$ 1.243,81, na média de janeiro a junho de 2017, o que representou um crescimento de 11,2% em relação ao mesmo período de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6555600" y="4956120"/>
            <a:ext cx="109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  <a:ea typeface="Arial"/>
              </a:rPr>
              <a:t>Varia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  <a:ea typeface="Arial"/>
              </a:rPr>
              <a:t>+11,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5"/>
          <p:cNvSpPr/>
          <p:nvPr/>
        </p:nvSpPr>
        <p:spPr>
          <a:xfrm flipV="1">
            <a:off x="2567160" y="5229000"/>
            <a:ext cx="3995640" cy="43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6"/>
          <p:cNvSpPr/>
          <p:nvPr/>
        </p:nvSpPr>
        <p:spPr>
          <a:xfrm flipH="1">
            <a:off x="7608600" y="2997360"/>
            <a:ext cx="2879640" cy="2095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1562040" y="6343560"/>
            <a:ext cx="8610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Inclui apenas os benefícios previdenciários e acidentári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Imagem 1" descr=""/>
          <p:cNvPicPr/>
          <p:nvPr/>
        </p:nvPicPr>
        <p:blipFill>
          <a:blip r:embed="rId1"/>
          <a:stretch/>
        </p:blipFill>
        <p:spPr>
          <a:xfrm>
            <a:off x="192240" y="1728720"/>
            <a:ext cx="1080108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334800" y="6334200"/>
            <a:ext cx="10801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s: DATAPREV, SUB, SINTESE.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Obs.: A existência de benefícios com valores inferiores ao salário mínimo deve-se ao desmembramento de pensões e ao pagamento de benefícios como o salário-família, </a:t>
            </a:r>
            <a:br>
              <a:rPr sz="900"/>
            </a:b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o auxílio suplementar, o auxílio acidente e o abono de permanênci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4871880" y="2133720"/>
            <a:ext cx="554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c0000"/>
                </a:solidFill>
                <a:latin typeface="Arial"/>
                <a:ea typeface="Arial"/>
              </a:rPr>
              <a:t>Cerca de 68,0% dos benefícios pagos pelo INSS em Junho/2017 possuíam o valor de até um salário mínimo, o que representa um contingente de 23,1 milhões de beneficiários diret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334800" y="765000"/>
            <a:ext cx="1080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Distribuição de Benefícios Emitidos, segundo faixas de Valor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Em Pisos Previdenciários (Posição Junho/20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Imagem 1" descr=""/>
          <p:cNvPicPr/>
          <p:nvPr/>
        </p:nvPicPr>
        <p:blipFill>
          <a:blip r:embed="rId1"/>
          <a:stretch/>
        </p:blipFill>
        <p:spPr>
          <a:xfrm>
            <a:off x="479520" y="1341360"/>
            <a:ext cx="10801080" cy="49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1523880" y="2492280"/>
            <a:ext cx="9107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BENEFÍCIOS CONCEDID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(FLUX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334800" y="765000"/>
            <a:ext cx="1080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4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Benefícios Concedidos – RG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Junho/2016, Maio/2017 e Junho/2017, Acumulado Janeiro a Junho (2016 e 20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485640" y="6489720"/>
            <a:ext cx="93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Imagem 1" descr=""/>
          <p:cNvPicPr/>
          <p:nvPr/>
        </p:nvPicPr>
        <p:blipFill>
          <a:blip r:embed="rId1"/>
          <a:stretch/>
        </p:blipFill>
        <p:spPr>
          <a:xfrm>
            <a:off x="365040" y="1176480"/>
            <a:ext cx="1077120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334800" y="744480"/>
            <a:ext cx="10801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Benefícios Concedidos pela Previdência Social (2009 a 2017)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Acumulado de Janeiro a Junho (Em milhares de benefíci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334800" y="630864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Imagem 1" descr=""/>
          <p:cNvPicPr/>
          <p:nvPr/>
        </p:nvPicPr>
        <p:blipFill>
          <a:blip r:embed="rId1"/>
          <a:stretch/>
        </p:blipFill>
        <p:spPr>
          <a:xfrm>
            <a:off x="334800" y="1125360"/>
            <a:ext cx="108014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85840" y="836640"/>
            <a:ext cx="10850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nho (2016 e 2017) – Em R$ milhões de Junh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285840" y="646416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Imagem 1" descr=""/>
          <p:cNvPicPr/>
          <p:nvPr/>
        </p:nvPicPr>
        <p:blipFill>
          <a:blip r:embed="rId1"/>
          <a:stretch/>
        </p:blipFill>
        <p:spPr>
          <a:xfrm>
            <a:off x="285840" y="1413000"/>
            <a:ext cx="10850400" cy="50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34800" y="765000"/>
            <a:ext cx="10730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nh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Imagem 1" descr=""/>
          <p:cNvPicPr/>
          <p:nvPr/>
        </p:nvPicPr>
        <p:blipFill>
          <a:blip r:embed="rId1"/>
          <a:stretch/>
        </p:blipFill>
        <p:spPr>
          <a:xfrm>
            <a:off x="352440" y="1413000"/>
            <a:ext cx="1078380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R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34800" y="76500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nho (2016 e 2017) – Em R$ milhões de Junh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34800" y="633744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Imagem 1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1080144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1523880" y="8366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e Junh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Imagem 1" descr=""/>
          <p:cNvPicPr/>
          <p:nvPr/>
        </p:nvPicPr>
        <p:blipFill>
          <a:blip r:embed="rId1"/>
          <a:stretch/>
        </p:blipFill>
        <p:spPr>
          <a:xfrm>
            <a:off x="334800" y="1341360"/>
            <a:ext cx="10801440" cy="51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34800" y="698400"/>
            <a:ext cx="1080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Junh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12840" y="645480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Imagem 1" descr=""/>
          <p:cNvPicPr/>
          <p:nvPr/>
        </p:nvPicPr>
        <p:blipFill>
          <a:blip r:embed="rId1"/>
          <a:stretch/>
        </p:blipFill>
        <p:spPr>
          <a:xfrm>
            <a:off x="334800" y="1417680"/>
            <a:ext cx="10801440" cy="5037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Zila de Jesus de Oliveira - MPS</cp:lastModifiedBy>
  <cp:lastPrinted>2017-08-04T21:08:50Z</cp:lastPrinted>
  <dcterms:modified xsi:type="dcterms:W3CDTF">2017-08-04T21:15:10Z</dcterms:modified>
  <cp:revision>426</cp:revision>
  <dc:subject/>
  <dc:title>Demografia</dc:title>
</cp:coreProperties>
</file>